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5ED5F-BF8E-4E6B-8296-D01D5CF0D5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8D176-20FF-4E4B-9FCE-8A4E52F7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0FF0D-84D7-40F5-9C01-46C5E73B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05FFA-A0FA-44CC-94C5-51EA31256A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AAC7A-2CAB-4565-9B37-77448347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74512-4FC4-4FCB-B14F-1D2FFFDF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61389-C638-4EEE-9151-D7500E61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81C4B-B31C-4BFF-8272-A943A51B7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89BB2-0196-42DC-BFC8-33ADCE0BB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1516A-7470-44E8-8E76-E3E0493D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B8268-88C6-4BBE-B065-C9EE87B9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5B87C-2F97-448E-AC90-148267F3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D345-3422-49E9-B6ED-70D8C5659D7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肠道感染病毒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367280" y="507204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首都医科大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朱俊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003320" y="2349000"/>
            <a:ext cx="71690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道感染病毒是指主要经消化道传播的病毒，包括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科的肠道病毒属和引起急性胃肠炎的相关病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41160" y="237024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科的肠道病毒属共包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；小球型，无包膜；衣壳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强，但对热、干燥、紫外线敏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数肠道病毒感染细胞出现明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，多引起隐性感染，有病毒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病多原、一原多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2627280" y="140328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肠道病毒种类与特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41160" y="1844280"/>
            <a:ext cx="80341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灰质炎的病原体，大多数人为隐性感染，少数出现中枢神经系统症状，又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儿麻痹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两次病毒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前角运动神经元受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后可获得对同型病毒牢固的免疫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减毒活疫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2987640" y="1125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病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14240" y="1223640"/>
            <a:ext cx="80344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柯萨奇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为隐性或轻型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无菌性脑膜炎、出疹性疾病、急性心肌炎、手足口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同型免疫持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埃可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与柯萨奇病毒类似的神经系统和呼吸系统病变、手足口病以及婴幼儿腹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8-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型可引起脑炎、手足口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9640" y="2491920"/>
            <a:ext cx="792000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性胃肠炎是人类常见病，主要表现为腹泻。可引起急性胃肠炎的重要病毒种类有：轮状病毒、肠道腺病毒、诺瓦克病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急性胃肠炎病毒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轮状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00000" y="1267920"/>
            <a:ext cx="7632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基因组分节段；球型，无包膜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层衣壳，内衣壳形如车轮辐条，外界抗性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组轮状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急性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组轮状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大儿童和成人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体液免疫为主，同型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镜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治疗应及时补液，纠正电解质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杯状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58920" y="2565360"/>
            <a:ext cx="691344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；外界抗性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通过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引起较大年龄儿童和成人急性胃肠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4000" y="263700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的共同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灰质炎病毒的致病特点和免疫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人类病毒性急性胃肠炎的病毒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正版用户</cp:lastModifiedBy>
  <dcterms:modified xsi:type="dcterms:W3CDTF">2014-05-26T01:40:52Z</dcterms:modified>
  <cp:revision>141</cp:revision>
  <dc:subject/>
  <dc:title>内科护理学</dc:title>
</cp:coreProperties>
</file>